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2CBD-7E4B-4932-A301-EEE2D31B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E391-C8ED-49C1-A849-C937F502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C984-F646-4761-BF56-C54A6E6F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F498-1971-418F-A6D9-5C5E13DC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AF8-D621-4C5D-A809-C902216B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8907-CFAF-420B-BE28-068EF1CC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343F-76A3-4392-9F19-34138C9F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882-1C4F-406B-A1ED-02B1C07A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9E2-67F4-4E0C-8E11-BB7CA19E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91CC-EACA-40A2-BB28-36C15B38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1DD-0402-41B1-86AF-4F69E539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506F-0E75-4E4B-A6E7-1F6E5946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CB03-B8F0-4E07-BA79-BBD110933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504d"/>
                </a:solidFill>
                <a:latin typeface="Calibri"/>
              </a:rPr>
              <a:t>MULTIPLIERS – GHG, JOBS, AND $ FOR DIVERSION &amp; 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2"/>
          <p:cNvGraphicFramePr/>
          <p:nvPr/>
        </p:nvGraphicFramePr>
        <p:xfrm>
          <a:off x="838080" y="1447920"/>
          <a:ext cx="79981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9981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9"/>
          <p:cNvSpPr/>
          <p:nvPr/>
        </p:nvSpPr>
        <p:spPr>
          <a:xfrm>
            <a:off x="1589400" y="6324480"/>
            <a:ext cx="48027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ource:  DRAFT figures, Skumatz Economic Research Associates, Inc. (SER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uperior, CO.  All rights reserved.  May be used with permission of auth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1379880" y="411480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232920" y="1981080"/>
            <a:ext cx="17517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iversion cheap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per MTCE than 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or renewab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EE labor intens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per MTCE, b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iversion compar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ble in jobs/$1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6858000" y="1752480"/>
            <a:ext cx="609480" cy="2743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8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23:03:29Z</dcterms:created>
  <dc:creator>Shannon</dc:creator>
  <dc:description/>
  <dc:language>en-US</dc:language>
  <cp:lastModifiedBy>Shannon</cp:lastModifiedBy>
  <dcterms:modified xsi:type="dcterms:W3CDTF">2010-08-23T23:04:16Z</dcterms:modified>
  <cp:revision>1</cp:revision>
  <dc:subject/>
  <dc:title>MULTIPLIERS – GHG, JOBS, AND $ FOR DIVERSION &amp; EE</dc:title>
</cp:coreProperties>
</file>