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66F-7B74-481A-875F-914B56AD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980-4B39-4EC4-8CB0-50A87A5A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BDA-0283-4635-A4C0-D2B7C201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4F8-16A8-493F-9772-BF5A1658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D8A-974A-4E14-B996-6796CF06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DE6-B82B-4074-87DA-87D92EEB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546-92D7-4DAE-9E25-7222A2BC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1B4-3D98-4E5D-B737-CA62583E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3CF-1C63-4A13-83BC-DB9127B3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E36-96EB-451B-A4BB-5BAAFFC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8A1-FA29-40D2-BFE1-0CDD380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867-2092-4D74-970F-5D2D815E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5959-C3DE-44E3-B1AF-F2115D9F1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504d"/>
                </a:solidFill>
                <a:latin typeface="Calibri"/>
              </a:rPr>
              <a:t>MULTIPLIERS – GHG, JOBS, AND $ FOR DIVERSION &amp; 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838080" y="1447920"/>
          <a:ext cx="79981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998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9"/>
          <p:cNvSpPr/>
          <p:nvPr/>
        </p:nvSpPr>
        <p:spPr>
          <a:xfrm>
            <a:off x="1589400" y="6324480"/>
            <a:ext cx="4802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 DRAFT figures, Skumatz Economic Research Associates, Inc. (S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perior, CO.  All rights reserved.  May be used with permission of auth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379880" y="411480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32920" y="1981080"/>
            <a:ext cx="1751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iversion cheap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er MTCE than 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or renewa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EE labor intens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er MTCE, b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iversion compa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ble in jobs/$1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58000" y="1752480"/>
            <a:ext cx="609480" cy="2743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23:03:29Z</dcterms:created>
  <dc:creator>Shannon</dc:creator>
  <dc:description/>
  <dc:language>en-US</dc:language>
  <cp:lastModifiedBy>Shannon</cp:lastModifiedBy>
  <dcterms:modified xsi:type="dcterms:W3CDTF">2010-08-23T23:04:16Z</dcterms:modified>
  <cp:revision>1</cp:revision>
  <dc:subject/>
  <dc:title>MULTIPLIERS – GHG, JOBS, AND $ FOR DIVERSION &amp; EE</dc:title>
</cp:coreProperties>
</file>