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F53-2978-4FC8-AB2B-37BCCA0B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560-022B-4660-B6D6-55E23A6D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BCC-BB33-4D4A-A315-404E86D0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324-EEA4-4AF1-A1CE-ABAE09A9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A9E-9C79-4C01-88E0-DAA5939D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26D-9E31-4899-86A5-1C9DE790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C56-2A6B-441C-8B8B-5763B393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AEA-B5BD-45D9-9E59-22984125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081-F816-4DF2-81DA-52B90FB9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B1F-54BC-4E0F-995B-BEAC4501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EA4-46A8-4303-9D8E-D994122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34E-3137-4EFB-8929-C106A4B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298C-9C08-4472-B32E-AF2B2F275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504d"/>
                </a:solidFill>
                <a:latin typeface="Calibri"/>
              </a:rPr>
              <a:t>MULTIPLIERS – GHG, JOBS, AND $ FOR DIVERSION &amp; 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838080" y="1447920"/>
          <a:ext cx="79981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9981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9"/>
          <p:cNvSpPr/>
          <p:nvPr/>
        </p:nvSpPr>
        <p:spPr>
          <a:xfrm>
            <a:off x="1589400" y="6324480"/>
            <a:ext cx="4802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 DRAFT figures, Skumatz Economic Research Associates, Inc. (S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perior, CO.  All rights reserved.  May be used with permission of auth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379880" y="411480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32920" y="1981080"/>
            <a:ext cx="1751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iversion cheap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er MTCE than 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or renewa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EE labor intens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er MTCE, b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iversion compa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ble in jobs/$1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58000" y="1752480"/>
            <a:ext cx="609480" cy="2743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8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23:03:29Z</dcterms:created>
  <dc:creator>Shannon</dc:creator>
  <dc:description/>
  <dc:language>en-US</dc:language>
  <cp:lastModifiedBy>Shannon</cp:lastModifiedBy>
  <dcterms:modified xsi:type="dcterms:W3CDTF">2010-08-23T23:04:16Z</dcterms:modified>
  <cp:revision>1</cp:revision>
  <dc:subject/>
  <dc:title>MULTIPLIERS – GHG, JOBS, AND $ FOR DIVERSION &amp; EE</dc:title>
</cp:coreProperties>
</file>