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83B5-157D-48C9-91C4-26DCCE02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E94D-E3A0-402F-AADF-EBD0A934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1D9D-5F89-4404-8573-7E5F7143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05A0-4F4C-452F-84E8-2DAC2909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D9B-4AF5-4C12-9DF0-F244018C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C0BD-4A14-453F-BD1C-303C5FFC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BCBD-BA34-4AC3-AEF2-8E52EC2E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25E2-2A2D-4024-A0B7-3D3D8EBB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5939-162A-4425-ACF8-B46AEBD4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C12E-1CBD-4CED-A282-49303375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EB9D-ABF9-4625-BE39-8A8AF88F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A296-DE6F-4AF4-BC71-F2E3C9C1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D4B7-A2C7-4EE1-98CE-37125E077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504d"/>
                </a:solidFill>
                <a:latin typeface="Calibri"/>
              </a:rPr>
              <a:t>MULTIPLIERS – GHG, JOBS, AND $ FOR DIVERSION &amp; 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2"/>
          <p:cNvGraphicFramePr/>
          <p:nvPr/>
        </p:nvGraphicFramePr>
        <p:xfrm>
          <a:off x="838080" y="1447920"/>
          <a:ext cx="799812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79981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Text Box 9"/>
          <p:cNvSpPr/>
          <p:nvPr/>
        </p:nvSpPr>
        <p:spPr>
          <a:xfrm>
            <a:off x="1589400" y="6324480"/>
            <a:ext cx="48027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ource:  DRAFT figures, Skumatz Economic Research Associates, Inc. (SER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uperior, CO.  All rights reserved.  May be used with permission of auth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1379880" y="4114800"/>
            <a:ext cx="41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232920" y="1981080"/>
            <a:ext cx="17517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iversion cheap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per MTCE than 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or renewab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EE labor intens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per MTCE, b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iversion compar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able in jobs/$1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6858000" y="1752480"/>
            <a:ext cx="609480" cy="2743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8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23:03:29Z</dcterms:created>
  <dc:creator>Shannon</dc:creator>
  <dc:description/>
  <dc:language>en-US</dc:language>
  <cp:lastModifiedBy>Shannon</cp:lastModifiedBy>
  <dcterms:modified xsi:type="dcterms:W3CDTF">2010-08-23T23:04:16Z</dcterms:modified>
  <cp:revision>1</cp:revision>
  <dc:subject/>
  <dc:title>MULTIPLIERS – GHG, JOBS, AND $ FOR DIVERSION &amp; EE</dc:title>
</cp:coreProperties>
</file>